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25.xml.rels" ContentType="application/vnd.openxmlformats-package.relationships+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Calibri"/>
            </a:endParaRPr>
          </a:p>
        </p:txBody>
      </p:sp>
      <p:sp>
        <p:nvSpPr>
          <p:cNvPr id="745"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6" name="PlaceHolder 2"/>
          <p:cNvSpPr>
            <a:spLocks noGrp="1"/>
          </p:cNvSpPr>
          <p:nvPr>
            <p:ph type="dt" idx="43"/>
          </p:nvPr>
        </p:nvSpPr>
        <p:spPr>
          <a:xfrm>
            <a:off x="3778200" y="0"/>
            <a:ext cx="288936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7" name="PlaceHolder 3"/>
          <p:cNvSpPr>
            <a:spLocks noGrp="1"/>
          </p:cNvSpPr>
          <p:nvPr>
            <p:ph type="sldImg"/>
          </p:nvPr>
        </p:nvSpPr>
        <p:spPr>
          <a:xfrm>
            <a:off x="853560" y="744120"/>
            <a:ext cx="496116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8"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49" name="PlaceHolder 5"/>
          <p:cNvSpPr>
            <a:spLocks noGrp="1"/>
          </p:cNvSpPr>
          <p:nvPr>
            <p:ph type="ftr" idx="44"/>
          </p:nvPr>
        </p:nvSpPr>
        <p:spPr>
          <a:xfrm>
            <a:off x="0" y="9427680"/>
            <a:ext cx="288936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50" name="PlaceHolder 6"/>
          <p:cNvSpPr>
            <a:spLocks noGrp="1"/>
          </p:cNvSpPr>
          <p:nvPr>
            <p:ph type="sldNum" idx="45"/>
          </p:nvPr>
        </p:nvSpPr>
        <p:spPr>
          <a:xfrm>
            <a:off x="3778200" y="9427680"/>
            <a:ext cx="288936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C478F-2CE1-4BB8-83EF-DA19AD4CC00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853920" y="744480"/>
            <a:ext cx="4961160" cy="3722760"/>
          </a:xfrm>
          <a:prstGeom prst="rect">
            <a:avLst/>
          </a:prstGeom>
          <a:ln w="0">
            <a:noFill/>
          </a:ln>
        </p:spPr>
      </p:sp>
      <p:sp>
        <p:nvSpPr>
          <p:cNvPr id="855"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6" name="Foliennummernplatzhalt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481D0-EB82-41B6-95FE-97BAC85C98DF}" type="slidenum">
              <a:rPr b="0" lang="de-DE"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F2ED49-3363-45AF-8115-403CA404DF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DC9804-CE93-4FD2-8D23-A62FE9B082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538A55-3B29-48D4-803E-DDF42E4496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051427-7452-4D76-8EEA-834096252C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F72EF7C-46A5-43A0-9009-466B636228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E0ABC9-894B-461E-B3E2-02E1D4DD0B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5ABE6D-A569-489C-B984-7277F95168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796DBB-7EDC-4332-8E43-D0978FEDB7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6DD59D6-7C84-42DC-AF5C-B79BFEE2C9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D084382-39F5-45D0-9C1F-DACF8625B0C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DF84FF0-CCDA-49A9-AB63-0519BF8115D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A275450-94ED-4EE7-A16A-0A4B56842D5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ADDC4D-8B74-476C-9F61-F2D2667A85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0F46733-55B7-4905-B68D-E45DB27733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9AFB23-ED8F-4483-BBC9-345E8DCE00A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0D1E8D-E07F-4BB9-9406-72EF096C0F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55994A-6F9F-4FEB-9FB7-24DD136EA33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5429A0-004C-49BA-A0F5-A39456F029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E50A87-9202-4A51-862F-C4A9940946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3A8671-187A-4186-A91E-48A4A974C8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45427B-C84B-4099-9FFC-B89EDD9A72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46F34DD-FF84-4D47-8DF1-7BD9A4626E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C015526-ED50-4F41-9A89-FF08629552C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1F8BBC-9256-40C1-A7A5-AB71E1C68E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E906768-2948-41F9-BA83-BB45E625C2F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215CF09-2DFC-40A1-9BF2-FFB02B47DBD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3B88A7A-9850-4702-BDD5-CE7CC6D6789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7413871-8E3E-4EAA-934F-BD2D68F5B4B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8B6631-7BC8-4CDE-9026-6E6BCF51303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5A15F2-44D4-4B49-8A9A-F44B3D1D3B6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7DE6314-D5DC-4873-B5C5-8CE4C782C4F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EDE2A8-783E-4561-ABE4-E03DA185F4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14A8E5-83CA-4D0D-9267-26E6B71A48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649893-24B7-4190-B591-74CAE17B16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7B64F3B-7B5F-4B46-88A5-AD143782E94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1671239-4FFD-4C81-928C-10600EC1DAB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4E5008B-EA6A-4BDA-AD7F-15AA6874F08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CF0538C-11B6-4CA9-BD31-9AE9A23D697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7AD759A-0437-4013-BC30-A5FBFA301DF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E5A5ED3-5ABD-4035-A910-4DBCFC015E9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0F02FEA-1A67-4187-AAD4-CD4700999F8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047E2E7-71EB-4BF4-A626-2C2AC118C28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1033FB3-E8DB-4B49-B219-8E8F275C3D3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EFA048-E81E-468A-B1C6-416669A275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575109-0018-4EAB-B6C5-A5C3847B05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FCAD78-6D7A-4AF8-AA9E-5CD81C7A5F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ED706B7-9C21-43C3-A676-D4BD5849B8A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5A6D0B8-BB4E-4E58-B45D-77FAF949CF5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5BFB306-8EA5-489D-B1CF-32DBB2F2BC1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0AD68E6-FB9B-4B91-9583-84AF43CC016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B0A180D-BC34-4F49-8384-CE538DA679A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9275C8E-9714-445D-B42D-A685F613016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ED27D7E-7275-4BED-97FB-CAAEAAF1D74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18DA47E-6DB0-4D5E-889B-30B0DDF79CB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76457E3-B448-46F8-9442-94993C2C636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F928AF6-E606-4019-9F48-4F20CB10D2E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E606539-3F6B-4122-A908-8E0B1999BC5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B117859-23E9-4397-AC94-D99BA260821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556FD55-F6B1-48D7-AEFA-EF38D92B736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84CB001-AC5F-452F-8DFC-3AD988C3875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D58C364-7DE2-4763-8B25-6A58F976E58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A2665C7-E1D5-4169-9C93-46D67C5ED77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5F7DACA-4344-4AB5-A440-DA7D6C223C8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18E9298-D7F0-4009-AD32-7072D19072B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470C2F9-545C-4CB1-9564-180E92E8762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98675FF-997E-42A7-ADC6-84DCE69BE2C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4D375EF-9B5E-481D-A485-953FF54AF72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3B42EE7-4958-404E-B9BC-5D7F764D178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024FC51-1C0E-41E6-9468-57435D79C6E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E05FB3F-5D16-4C4C-AAE5-C31ACD38B9C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01DA03D-B1B4-4B82-A044-C96A4B1A5D4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BD082B1-8321-4F5B-84A9-4A12FE9F078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8B6F714-4E81-4717-8281-9824D2B55E5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4F462E1-CA9B-42F2-A9A5-16FE9723145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35DA459-61DA-43C0-82BB-EA60CE6B237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D235991-9C59-438F-A6CC-A3C759DB1EE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FBE7C96-02FD-47C6-993E-2F1087894F7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1656E79-C473-44DD-8888-03483D3F474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9E302E8-F9E1-4034-9C4D-88B2C775347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F28DD19-6443-42AC-BB75-CE9333F0C0C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BEA35F2-69AA-452F-84DB-47450FE5CBA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E35D33A-8240-4FE9-92BB-6F7C4426D67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5216FEC-B140-4962-83CA-A2D88EE5C6E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97DD6D0-95EA-4E7C-AAD5-343643CEBC1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1F03BA0-2A69-4DEB-A747-5479AC1E979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CD76DAD-699D-452D-9550-1BE3073F546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43CADC9-819F-472B-A6C7-5E8A4C7C5A9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59EFA6D-1301-4FF9-9D63-BC331A8950C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6545285-9627-4108-990B-BEBC1AF3C83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3DBE01B-8804-4A69-9E6A-D691EFFCF65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CB1FF07-BD28-4462-9418-B893EDACC84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75AE718-2130-4764-A3D9-FE3D8836F9C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85338D-4BF2-43EB-9D88-BBD4DCA94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54EA775-956B-45C6-AE1A-08295D89EAC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B004487-61B7-4477-B4AE-EF9DBC761F0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6E2D4DE-FF41-4874-97DA-95FFE6902BA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B79CB62-B1BC-4422-8908-A1E6951243C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D228057-9673-436C-82AC-8DE1B15F137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B7ED3B97-3AF9-4F54-A7F8-EC46913F6C8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8A94E5C-C35E-4FDA-9ABF-FE2DC538941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522E801-EFE3-4342-81FD-FAFFD811DE5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6C3C861-8E87-44CA-9A3A-0CA6CC84B6D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60CA89D-B9C0-46FE-A6CD-A1FD1152303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D5D6015-845C-4302-99D9-A0F59C89DC9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913914C-A9DD-4CC6-8701-4FAE9739106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33DDE43-6196-4549-9D5C-D699D48E98A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5F6B554-9E4E-41C4-B52C-3244C059F31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A3D6FF0-C046-48AB-B2F9-96C6DC7BACA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EFE3133-D8ED-4614-8DFF-0770D2C6833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50C5C45-A57B-4F4B-AB81-CF89AC75D2C8}"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98F955-B440-40AB-84B8-E6517FD7E7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D9F2B-2A88-49F5-A736-636FC6EF5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427729-0A45-4E66-9EF9-D90368CD16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70F4D6-5D77-4ACB-BEC6-E7633ED9EB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DC05C8-9E31-414B-B45E-034F446F5A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670D22-1996-411D-B7E0-2535482DED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41138E-4F75-42DA-BEA6-D07D4244BA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64E768-2912-49C7-B899-D59A5154CF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BF7E2D-897B-4D67-AE4B-2307E6E505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A579E9-7325-4A1F-9F4C-9CB87590D6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4DEC24-A601-4A70-8827-C50FD54DCE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7FCDD6-42F8-42C9-B842-966C0EACD1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B4D675-41BF-4E7F-9867-EB2ED3CDF8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96E065-28D9-4A47-BDC3-CD4B4AC2D1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2B2499-EAFE-4BD4-B97C-8613C8FDBD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D210DE-41F0-4422-875E-3C12D5FFE1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392D5DB-EE64-4788-A813-0591025DCE5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689C97-995F-466F-BC5F-FB0A43546F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2CDE72-5258-4DCB-A2B5-7173A6BBAF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CD772D-E4ED-47BA-A4C0-A7D613F466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EED412-FBE8-47D2-93AF-DADAEE175F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3E542C-6CEE-4FE0-8B27-917D5620ED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680C91-648E-41D5-B627-1E745173A2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70A80A-D0C5-448F-B34E-D3BCAB2782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479317-F2E0-4CB9-94F2-0C1BC0DB78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B9B49-B18C-401C-8606-663B76D43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A0C9DC-848F-40D9-9C23-A40BEBD4EB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E945AC6-BC78-4134-B59E-6EDE86B8850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9D6D232-A891-4918-98B4-35264733D4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014F8E1-002F-45CA-B4DA-03E9387E216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406291-7DAE-43C1-A4EF-F9649EA637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2224A9-31F6-4E76-895F-782324B066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7DBA1B-ECFD-4F87-A42E-FE093E0EFD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FC688F-0554-4D5F-9D54-2AA7A1F24A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7AED05-B1AD-4A7A-93C8-3AF6B25D10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596CDD-6B7B-497A-A72A-69ECEB7DDD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55358-055E-48FD-B186-1850C10218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984702-5CDC-4DB4-B52A-CBCD84A2B8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0CA88C-3549-47DC-8179-4F045AF859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EA4138-4866-442B-82B0-477EFE2E99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132D904-9AD2-4DD0-83F0-EE775BE4BF8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5868835-892E-4187-8D38-70B231DFCF3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E2B190D-6259-4500-A624-E8F1B366124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E65169-1841-4986-ADCB-12C29B46E6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00A4C8-8763-4E53-9220-FAD4816924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D74979-8C46-4907-A410-633CB89602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A7CB68-2339-46E1-95F7-97C93019D2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455F9-CF2F-477D-945A-E021ED15C6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BE4151-CCAE-4ABD-9294-2672598CED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E8B8AA-61FF-4EEB-82F0-2BA9D6D5C1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5BA5A6-7891-425D-84B5-597C624C44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A005F3-51DD-45FA-97B9-6A59D42FC0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A83703-F8F9-4A84-B878-D772CE85B6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5FF4087-398F-4A10-92D3-94638AE03F0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D98AC07-B60A-4981-8AD1-0376317D799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FB6DF9F-814C-47DA-AD81-42460F362E9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1016D2-FC46-44FC-BA4C-7CCF1F4414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0963D0-A08F-4127-BE6F-9CFBBFD5A641}"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FDB22-726B-4F81-A12A-351D44E83E3C}"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92968-FE3B-4C2F-A6AE-7E39DEF3B5A9}"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6B836-1601-4722-A1B6-BF5D9DDCAAF5}"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D50FF-033D-4D36-81BD-834DD7A3990A}"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6C4DA-A9B6-472C-8AB8-DA2D3598D376}"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8B5C1-3C9A-43AA-8CBF-BA0495B7E8A5}"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77FDC-3F4E-44BF-B5A7-2CB7DDEA4A9F}"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142BD-93DF-4296-8B2E-CC07132DD7FE}"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7D14B-0A13-46C7-B45B-F3C2465E2B41}"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1a1a1a"/>
                </a:solidFill>
                <a:latin typeface="Open Sans Light"/>
                <a:ea typeface="ＭＳ Ｐゴシック"/>
              </a:rPr>
              <a:t>International</a:t>
            </a:r>
            <a:r>
              <a:rPr b="0" lang="de-DE" sz="4600" spc="-1" strike="noStrike">
                <a:solidFill>
                  <a:srgbClr val="1a1a1a"/>
                </a:solidFill>
                <a:latin typeface="Open Sans"/>
                <a:ea typeface="ＭＳ Ｐゴシック"/>
              </a:rPr>
              <a:t> </a:t>
            </a:r>
            <a:r>
              <a:rPr b="0" lang="de-DE" sz="4600" spc="-1" strike="noStrike">
                <a:solidFill>
                  <a:srgbClr val="333333"/>
                </a:solidFill>
                <a:latin typeface="Open Sans Bold"/>
                <a:ea typeface="ＭＳ Ｐゴシック"/>
              </a:rPr>
              <a:t>Pain School</a:t>
            </a:r>
            <a:endParaRPr b="0" lang="en-US" sz="4600" spc="-1" strike="noStrike">
              <a:solidFill>
                <a:srgbClr val="1a1a1a"/>
              </a:solidFill>
              <a:latin typeface="Calibri"/>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42D83-AECF-435F-833B-753639A1BA2C}"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16889-00CA-436F-BCE3-8481EC6E75B4}"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05AED-BB1D-4C36-8523-E5F63F8E4790}"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65F8D-EFAB-4A58-9CBE-9A9D00A48D3A}"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E10F7-12F7-4865-B40D-F3621D891E56}"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WHO Pain Relief Ladder</a:t>
            </a:r>
            <a:endParaRPr b="0" lang="en-US" sz="3200" spc="-1" strike="noStrike">
              <a:solidFill>
                <a:srgbClr val="333333"/>
              </a:solidFill>
              <a:latin typeface="Open Sans Semibold"/>
            </a:endParaRPr>
          </a:p>
        </p:txBody>
      </p:sp>
      <p:sp>
        <p:nvSpPr>
          <p:cNvPr id="770"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400" spc="-1" strike="noStrike">
                <a:solidFill>
                  <a:srgbClr val="1a1a1a"/>
                </a:solidFill>
                <a:latin typeface="Open Sans"/>
                <a:ea typeface="Arial"/>
              </a:rPr>
              <a:t>By the clock</a:t>
            </a:r>
            <a:br>
              <a:rPr sz="2400"/>
            </a:b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400" spc="-1" strike="noStrike">
                <a:solidFill>
                  <a:srgbClr val="1a1a1a"/>
                </a:solidFill>
                <a:latin typeface="Open Sans"/>
                <a:ea typeface="Arial"/>
              </a:rPr>
              <a:t>By the mouth</a:t>
            </a:r>
            <a:br>
              <a:rPr sz="2400"/>
            </a:b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400" spc="-1" strike="noStrike">
                <a:solidFill>
                  <a:srgbClr val="1a1a1a"/>
                </a:solidFill>
                <a:latin typeface="Open Sans"/>
                <a:ea typeface="Arial"/>
              </a:rPr>
              <a:t>By the ladder</a:t>
            </a:r>
            <a:br>
              <a:rPr sz="2400"/>
            </a:b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400" spc="-1" strike="noStrike">
                <a:solidFill>
                  <a:srgbClr val="1a1a1a"/>
                </a:solidFill>
                <a:latin typeface="Open Sans"/>
                <a:ea typeface="Arial"/>
              </a:rPr>
              <a:t>By the individual</a:t>
            </a:r>
            <a:endParaRPr b="0" lang="en-US" sz="2400" spc="-1" strike="noStrike">
              <a:solidFill>
                <a:srgbClr val="1a1a1a"/>
              </a:solidFill>
              <a:latin typeface="Open Sans"/>
            </a:endParaRPr>
          </a:p>
        </p:txBody>
      </p:sp>
      <p:grpSp>
        <p:nvGrpSpPr>
          <p:cNvPr id="771" name="Group 1"/>
          <p:cNvGrpSpPr/>
          <p:nvPr/>
        </p:nvGrpSpPr>
        <p:grpSpPr>
          <a:xfrm>
            <a:off x="3851280" y="2212920"/>
            <a:ext cx="4321080" cy="3303720"/>
            <a:chOff x="3851280" y="2212920"/>
            <a:chExt cx="4321080" cy="3303720"/>
          </a:xfrm>
        </p:grpSpPr>
        <p:sp>
          <p:nvSpPr>
            <p:cNvPr id="772" name="Rechteck 4"/>
            <p:cNvSpPr/>
            <p:nvPr/>
          </p:nvSpPr>
          <p:spPr>
            <a:xfrm>
              <a:off x="3851280" y="4869000"/>
              <a:ext cx="1441440" cy="647640"/>
            </a:xfrm>
            <a:prstGeom prst="rect">
              <a:avLst/>
            </a:prstGeom>
            <a:solidFill>
              <a:srgbClr val="008bc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Open Sans"/>
                </a:rPr>
                <a:t>Non-opioids</a:t>
              </a:r>
              <a:endParaRPr b="0" lang="en-US" sz="1800" spc="-1" strike="noStrike">
                <a:solidFill>
                  <a:srgbClr val="1a1a1a"/>
                </a:solidFill>
                <a:latin typeface="Calibri"/>
              </a:endParaRPr>
            </a:p>
          </p:txBody>
        </p:sp>
        <p:sp>
          <p:nvSpPr>
            <p:cNvPr id="773" name="Rechteck 5"/>
            <p:cNvSpPr/>
            <p:nvPr/>
          </p:nvSpPr>
          <p:spPr>
            <a:xfrm>
              <a:off x="5292720" y="4869000"/>
              <a:ext cx="1439640" cy="647640"/>
            </a:xfrm>
            <a:prstGeom prst="rect">
              <a:avLst/>
            </a:prstGeom>
            <a:solidFill>
              <a:srgbClr val="008bc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Open Sans"/>
                </a:rPr>
                <a:t>Non-opioids</a:t>
              </a:r>
              <a:endParaRPr b="0" lang="en-US" sz="1800" spc="-1" strike="noStrike">
                <a:solidFill>
                  <a:srgbClr val="1a1a1a"/>
                </a:solidFill>
                <a:latin typeface="Calibri"/>
              </a:endParaRPr>
            </a:p>
          </p:txBody>
        </p:sp>
        <p:sp>
          <p:nvSpPr>
            <p:cNvPr id="774" name="Rechteck 6"/>
            <p:cNvSpPr/>
            <p:nvPr/>
          </p:nvSpPr>
          <p:spPr>
            <a:xfrm>
              <a:off x="6732720" y="4869000"/>
              <a:ext cx="1439640" cy="647640"/>
            </a:xfrm>
            <a:prstGeom prst="rect">
              <a:avLst/>
            </a:prstGeom>
            <a:solidFill>
              <a:srgbClr val="008bc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Open Sans"/>
                </a:rPr>
                <a:t>Non-opioids</a:t>
              </a:r>
              <a:endParaRPr b="0" lang="en-US" sz="1800" spc="-1" strike="noStrike">
                <a:solidFill>
                  <a:srgbClr val="1a1a1a"/>
                </a:solidFill>
                <a:latin typeface="Calibri"/>
              </a:endParaRPr>
            </a:p>
          </p:txBody>
        </p:sp>
        <p:sp>
          <p:nvSpPr>
            <p:cNvPr id="775" name="Rechteck 7"/>
            <p:cNvSpPr/>
            <p:nvPr/>
          </p:nvSpPr>
          <p:spPr>
            <a:xfrm>
              <a:off x="5292720" y="4149720"/>
              <a:ext cx="1439640" cy="718920"/>
            </a:xfrm>
            <a:prstGeom prst="rect">
              <a:avLst/>
            </a:prstGeom>
            <a:solidFill>
              <a:srgbClr val="008bc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Open Sans"/>
                </a:rPr>
                <a:t>Low potent opioids</a:t>
              </a:r>
              <a:endParaRPr b="0" lang="en-US" sz="1800" spc="-1" strike="noStrike">
                <a:solidFill>
                  <a:srgbClr val="1a1a1a"/>
                </a:solidFill>
                <a:latin typeface="Calibri"/>
              </a:endParaRPr>
            </a:p>
          </p:txBody>
        </p:sp>
        <p:sp>
          <p:nvSpPr>
            <p:cNvPr id="776" name="Rechteck 8"/>
            <p:cNvSpPr/>
            <p:nvPr/>
          </p:nvSpPr>
          <p:spPr>
            <a:xfrm>
              <a:off x="6732720" y="3500280"/>
              <a:ext cx="1439640" cy="1368360"/>
            </a:xfrm>
            <a:prstGeom prst="rect">
              <a:avLst/>
            </a:prstGeom>
            <a:solidFill>
              <a:srgbClr val="008bc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Open Sans"/>
                </a:rPr>
                <a:t>High potent opioids</a:t>
              </a:r>
              <a:endParaRPr b="0" lang="en-US" sz="1800" spc="-1" strike="noStrike">
                <a:solidFill>
                  <a:srgbClr val="1a1a1a"/>
                </a:solidFill>
                <a:latin typeface="Calibri"/>
              </a:endParaRPr>
            </a:p>
          </p:txBody>
        </p:sp>
        <p:sp>
          <p:nvSpPr>
            <p:cNvPr id="777" name="Rechteck 4"/>
            <p:cNvSpPr/>
            <p:nvPr/>
          </p:nvSpPr>
          <p:spPr>
            <a:xfrm>
              <a:off x="3851280" y="2212920"/>
              <a:ext cx="14414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Open Sans"/>
                </a:rPr>
                <a:t>Step I</a:t>
              </a:r>
              <a:endParaRPr b="0" lang="en-US" sz="1800" spc="-1" strike="noStrike">
                <a:solidFill>
                  <a:srgbClr val="1a1a1a"/>
                </a:solidFill>
                <a:latin typeface="Calibri"/>
              </a:endParaRPr>
            </a:p>
          </p:txBody>
        </p:sp>
        <p:sp>
          <p:nvSpPr>
            <p:cNvPr id="778" name="Rechteck 5"/>
            <p:cNvSpPr/>
            <p:nvPr/>
          </p:nvSpPr>
          <p:spPr>
            <a:xfrm>
              <a:off x="5292720" y="2212920"/>
              <a:ext cx="1439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Open Sans"/>
                </a:rPr>
                <a:t>Step II</a:t>
              </a:r>
              <a:endParaRPr b="0" lang="en-US" sz="1800" spc="-1" strike="noStrike">
                <a:solidFill>
                  <a:srgbClr val="1a1a1a"/>
                </a:solidFill>
                <a:latin typeface="Calibri"/>
              </a:endParaRPr>
            </a:p>
          </p:txBody>
        </p:sp>
        <p:sp>
          <p:nvSpPr>
            <p:cNvPr id="779" name="Rechteck 6"/>
            <p:cNvSpPr/>
            <p:nvPr/>
          </p:nvSpPr>
          <p:spPr>
            <a:xfrm>
              <a:off x="6732720" y="2212920"/>
              <a:ext cx="1439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Open Sans"/>
                </a:rPr>
                <a:t>Step III</a:t>
              </a:r>
              <a:endParaRPr b="0" lang="en-US" sz="1800" spc="-1" strike="noStrike">
                <a:solidFill>
                  <a:srgbClr val="1a1a1a"/>
                </a:solidFill>
                <a:latin typeface="Calibri"/>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ombination of drugs</a:t>
            </a:r>
            <a:endParaRPr b="0" lang="en-US" sz="3200" spc="-1" strike="noStrike">
              <a:solidFill>
                <a:srgbClr val="333333"/>
              </a:solidFill>
              <a:latin typeface="Open Sans Semibold"/>
            </a:endParaRPr>
          </a:p>
        </p:txBody>
      </p:sp>
      <p:sp>
        <p:nvSpPr>
          <p:cNvPr id="78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ften we need to combine several drugs to improve the total analgesic effec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 non-opioid with an opioi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buprofen or diclofenac with paracetamol (acetaminophen) or metamizol (dipyrone) (i.e. an NSAID with a simple analgesic).</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re is no improvement in the analgesia by combining metamizol with paracetamol (i.e. two simple analgesics).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Non-opioids</a:t>
            </a:r>
            <a:endParaRPr b="0" lang="en-US" sz="3200" spc="-1" strike="noStrike">
              <a:solidFill>
                <a:srgbClr val="333333"/>
              </a:solidFill>
              <a:latin typeface="Open Sans Semibold"/>
            </a:endParaRPr>
          </a:p>
        </p:txBody>
      </p:sp>
      <p:sp>
        <p:nvSpPr>
          <p:cNvPr id="78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X inhibitors inhibit peripheral and central (dorsal horn of the spinal cord) hyperalgesia by ínhibiting production of prostaglandi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nalgesic: paracetamol, metamizol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nalgesic and anti-inflammatory: ibuprofen, diclofena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elective COX inhibitors: celecoxib, etoricoxib</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Possible side-effects</a:t>
            </a:r>
            <a:endParaRPr b="0" lang="en-US" sz="3200" spc="-1" strike="noStrike">
              <a:solidFill>
                <a:srgbClr val="333333"/>
              </a:solidFill>
              <a:latin typeface="Open Sans Semibold"/>
            </a:endParaRPr>
          </a:p>
        </p:txBody>
      </p:sp>
      <p:sp>
        <p:nvSpPr>
          <p:cNvPr id="78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verdose of acetaminophen can lead to liver failur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buprofen and diclofenac can produce gastrointestinal problems such as ulcers and kidney failur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etamizol rarely provokes leukopenia and agranulozytosis (about 1:1 Mio, higher risk in Scandinavia because of genetic reason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Dosage</a:t>
            </a:r>
            <a:endParaRPr b="0" lang="en-US" sz="3200" spc="-1" strike="noStrike">
              <a:solidFill>
                <a:srgbClr val="333333"/>
              </a:solidFill>
              <a:latin typeface="Open Sans Semibold"/>
            </a:endParaRPr>
          </a:p>
        </p:txBody>
      </p:sp>
      <p:sp>
        <p:nvSpPr>
          <p:cNvPr id="787" name=""/>
          <p:cNvSpPr txBox="1"/>
          <p:nvPr/>
        </p:nvSpPr>
        <p:spPr>
          <a:xfrm>
            <a:off x="777600" y="1387440"/>
            <a:ext cx="775476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aracetamol: 4 x 1000mg (daily dose &lt; 4.0g because of possible liver toxicit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etamizol: 4 x 500 – 1000mg (daily dose &lt; 6.0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buprofen: 3 x 400-800mg (maximum daily dose 2400m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Diclofenac 3 x 50mg or 2 x 75mg extended release formula (maximum daily dose 150m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elecoxib 2 x 100mg-2 x 200mg, Etoricoxib 1 x 60-90m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df006e"/>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df006e"/>
                </a:solidFill>
                <a:latin typeface="Open Sans"/>
              </a:rPr>
              <a:t>Duration of treatment ? </a:t>
            </a:r>
            <a:endParaRPr b="0" lang="en-US" sz="2200" spc="-1" strike="noStrike">
              <a:solidFill>
                <a:srgbClr val="1a1a1a"/>
              </a:solidFill>
              <a:latin typeface="Open Sans"/>
            </a:endParaRPr>
          </a:p>
          <a:p>
            <a:pPr marL="287280" indent="-287280">
              <a:lnSpc>
                <a:spcPts val="3600"/>
              </a:lnSpc>
              <a:buClr>
                <a:srgbClr val="df006e"/>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with opioids</a:t>
            </a:r>
            <a:endParaRPr b="0" lang="en-US" sz="3200" spc="-1" strike="noStrike">
              <a:solidFill>
                <a:srgbClr val="333333"/>
              </a:solidFill>
              <a:latin typeface="Open Sans Semibold"/>
            </a:endParaRPr>
          </a:p>
        </p:txBody>
      </p:sp>
      <p:sp>
        <p:nvSpPr>
          <p:cNvPr id="78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pioids are the most potent of the analgesic drugs and you should use them early in cancer pain treatmen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y bind to opioid receptors in the cell membranes in the central and peripheral nervous system: µ-, ĸ-, </a:t>
            </a:r>
            <a:r>
              <a:rPr b="0" lang="el-GR" sz="2200" spc="-1" strike="noStrike">
                <a:solidFill>
                  <a:srgbClr val="1a1a1a"/>
                </a:solidFill>
                <a:latin typeface="Open Sans"/>
              </a:rPr>
              <a:t>δ</a:t>
            </a:r>
            <a:r>
              <a:rPr b="0" lang="de-DE" sz="2200" spc="-1" strike="noStrike">
                <a:solidFill>
                  <a:srgbClr val="1a1a1a"/>
                </a:solidFill>
                <a:latin typeface="Open Sans"/>
              </a:rPr>
              <a:t>-recepto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ypical side effects of opioids are dose related and mostly appear at the beginning of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itrate opioids slowly to the most effective analgesic dose to reduce side effect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Opioid side effects</a:t>
            </a:r>
            <a:endParaRPr b="0" lang="en-US" sz="3200" spc="-1" strike="noStrike">
              <a:solidFill>
                <a:srgbClr val="333333"/>
              </a:solidFill>
              <a:latin typeface="Open Sans Semibold"/>
            </a:endParaRPr>
          </a:p>
        </p:txBody>
      </p:sp>
      <p:sp>
        <p:nvSpPr>
          <p:cNvPr id="79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nstipation, reduction of the gastrointestinal motilit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nausea, vomiting,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edation, dizzin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gnitive impair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respiratory depression, antitussiv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ruritu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uscle rigidity, urinary retention</a:t>
            </a:r>
            <a:br>
              <a:rPr sz="2200"/>
            </a:br>
            <a:r>
              <a:rPr b="0" lang="de-DE" sz="2200" spc="-1" strike="noStrike">
                <a:solidFill>
                  <a:srgbClr val="1a1a1a"/>
                </a:solidFill>
                <a:latin typeface="Open Sans"/>
              </a:rPr>
              <a: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with opioids</a:t>
            </a:r>
            <a:endParaRPr b="0" lang="en-US" sz="3200" spc="-1" strike="noStrike">
              <a:solidFill>
                <a:srgbClr val="333333"/>
              </a:solidFill>
              <a:latin typeface="Open Sans Semibold"/>
            </a:endParaRPr>
          </a:p>
        </p:txBody>
      </p:sp>
      <p:sp>
        <p:nvSpPr>
          <p:cNvPr id="79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Don‘t be afraid of opioid dependency when treating cancer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diction is exceedingly rare during long-term opioid treatment of cancer pai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der-treatment of pain may lead to drug-seeking behavior by the patient (=pseudo-addictio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with opioids</a:t>
            </a:r>
            <a:endParaRPr b="0" lang="en-US" sz="3200" spc="-1" strike="noStrike">
              <a:solidFill>
                <a:srgbClr val="333333"/>
              </a:solidFill>
              <a:latin typeface="Open Sans Semibold"/>
            </a:endParaRPr>
          </a:p>
        </p:txBody>
      </p:sp>
      <p:sp>
        <p:nvSpPr>
          <p:cNvPr id="79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Don‘t be afraid of respiratory depression – </a:t>
            </a:r>
            <a:r>
              <a:rPr b="0" lang="en-US" sz="2200" spc="-1" strike="noStrike">
                <a:solidFill>
                  <a:srgbClr val="1a1a1a"/>
                </a:solidFill>
                <a:latin typeface="Open Sans"/>
              </a:rPr>
              <a:t>patients receiving long-term opioid therapy generally </a:t>
            </a:r>
            <a:br>
              <a:rPr sz="2200"/>
            </a:br>
            <a:r>
              <a:rPr b="0" lang="en-US" sz="2200" spc="-1" strike="noStrike">
                <a:solidFill>
                  <a:srgbClr val="1a1a1a"/>
                </a:solidFill>
                <a:latin typeface="Open Sans"/>
              </a:rPr>
              <a:t>develop tolerance to the respiratory-depressant </a:t>
            </a:r>
            <a:br>
              <a:rPr sz="2200"/>
            </a:br>
            <a:r>
              <a:rPr b="0" lang="en-US" sz="2200" spc="-1" strike="noStrike">
                <a:solidFill>
                  <a:srgbClr val="1a1a1a"/>
                </a:solidFill>
                <a:latin typeface="Open Sans"/>
              </a:rPr>
              <a:t>effects of opioid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ide effects – except for constipation – decrease during prolonged and regular administraiton of opioi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pioid-induced-constipation requires that you combine a laxative in nearly all patients treated with an opioid.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with opioids</a:t>
            </a:r>
            <a:endParaRPr b="0" lang="en-US" sz="3200" spc="-1" strike="noStrike">
              <a:solidFill>
                <a:srgbClr val="333333"/>
              </a:solidFill>
              <a:latin typeface="Open Sans Semibold"/>
            </a:endParaRPr>
          </a:p>
        </p:txBody>
      </p:sp>
      <p:sp>
        <p:nvSpPr>
          <p:cNvPr id="797" name=""/>
          <p:cNvSpPr txBox="1"/>
          <p:nvPr/>
        </p:nvSpPr>
        <p:spPr>
          <a:xfrm>
            <a:off x="777960" y="1387440"/>
            <a:ext cx="782640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How to use opioids in cancer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refer the extended-release/prolonged-release formulations of oral opioids: onset within 30 - 60 minutes, duration 8 - 12 hou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reat breakthrough pain with immediate-release formulations: onset within 30 minutes, duration 4 - 6 hours (prescribe 1/5 of the daily opioid 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combination of opioids and non-opioids helps to reduce the dosage and the side effects of the single drug</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subTitle"/>
          </p:nvPr>
        </p:nvSpPr>
        <p:spPr>
          <a:xfrm>
            <a:off x="2268360" y="4941360"/>
            <a:ext cx="5337360" cy="52092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ea typeface="Open Sans Light"/>
              </a:rPr>
              <a:t>type in your name</a:t>
            </a:r>
            <a:endParaRPr b="0" lang="en-US" sz="3600" spc="-1" strike="noStrike">
              <a:solidFill>
                <a:srgbClr val="1a1a1a"/>
              </a:solidFill>
              <a:latin typeface="Open Sans"/>
            </a:endParaRPr>
          </a:p>
        </p:txBody>
      </p:sp>
      <p:sp>
        <p:nvSpPr>
          <p:cNvPr id="752" name="PlaceHolder 2"/>
          <p:cNvSpPr>
            <a:spLocks noGrp="1"/>
          </p:cNvSpPr>
          <p:nvPr>
            <p:ph/>
          </p:nvPr>
        </p:nvSpPr>
        <p:spPr>
          <a:xfrm>
            <a:off x="771120" y="4136760"/>
            <a:ext cx="6800760" cy="5871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800" spc="-1" strike="noStrike">
                <a:solidFill>
                  <a:srgbClr val="333333"/>
                </a:solidFill>
                <a:latin typeface="Open Sans"/>
              </a:rPr>
              <a:t>Low technology treatment methods</a:t>
            </a:r>
            <a:endParaRPr b="0" lang="en-US" sz="2800" spc="-1" strike="noStrike">
              <a:solidFill>
                <a:srgbClr val="1a1a1a"/>
              </a:solidFill>
              <a:latin typeface="Open Sans"/>
            </a:endParaRPr>
          </a:p>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800" spc="-1" strike="noStrike">
              <a:solidFill>
                <a:srgbClr val="1a1a1a"/>
              </a:solidFill>
              <a:latin typeface="Open Sans"/>
            </a:endParaRPr>
          </a:p>
        </p:txBody>
      </p:sp>
      <p:sp>
        <p:nvSpPr>
          <p:cNvPr id="753" name="PlaceHolder 3"/>
          <p:cNvSpPr>
            <a:spLocks noGrp="1"/>
          </p:cNvSpPr>
          <p:nvPr>
            <p:ph/>
          </p:nvPr>
        </p:nvSpPr>
        <p:spPr>
          <a:xfrm>
            <a:off x="755280" y="3141360"/>
            <a:ext cx="6800760" cy="793800"/>
          </a:xfrm>
          <a:prstGeom prst="rect">
            <a:avLst/>
          </a:prstGeom>
          <a:noFill/>
          <a:ln w="0">
            <a:noFill/>
          </a:ln>
        </p:spPr>
        <p:txBody>
          <a:bodyPr lIns="0" rIns="0" tIns="0" bIns="0" anchor="b">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4600" spc="-1" strike="noStrike">
                <a:solidFill>
                  <a:srgbClr val="1a1a1a"/>
                </a:solidFill>
                <a:latin typeface="Open Sans"/>
              </a:rPr>
              <a:t>Cancer Pain</a:t>
            </a:r>
            <a:endParaRPr b="0" lang="en-US" sz="4600" spc="-1" strike="noStrike">
              <a:solidFill>
                <a:srgbClr val="1a1a1a"/>
              </a:solidFill>
              <a:latin typeface="Open Sans"/>
            </a:endParaRPr>
          </a:p>
        </p:txBody>
      </p:sp>
      <p:sp>
        <p:nvSpPr>
          <p:cNvPr id="754" name="Rectangle 5"/>
          <p:cNvSpPr/>
          <p:nvPr/>
        </p:nvSpPr>
        <p:spPr>
          <a:xfrm>
            <a:off x="1116000" y="5661000"/>
            <a:ext cx="649764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99ff"/>
                </a:solidFill>
                <a:latin typeface="Calibri"/>
              </a:rPr>
              <a:t>Type in the name</a:t>
            </a:r>
            <a:r>
              <a:rPr b="0" i="1" lang="en-US" sz="1800" spc="-1" strike="noStrike">
                <a:solidFill>
                  <a:srgbClr val="3399ff"/>
                </a:solidFill>
                <a:latin typeface="Calibri"/>
              </a:rPr>
              <a:t> </a:t>
            </a:r>
            <a:r>
              <a:rPr b="0" i="1" lang="en-US" sz="2400" spc="-1" strike="noStrike">
                <a:solidFill>
                  <a:srgbClr val="3399ff"/>
                </a:solidFill>
                <a:latin typeface="Calibri"/>
              </a:rPr>
              <a:t>of </a:t>
            </a:r>
            <a:r>
              <a:rPr b="0" i="1" lang="en-US" sz="2800" spc="-1" strike="noStrike">
                <a:solidFill>
                  <a:srgbClr val="3399ff"/>
                </a:solidFill>
                <a:latin typeface="Calibri"/>
              </a:rPr>
              <a:t>your institution</a:t>
            </a:r>
            <a:endParaRPr b="0" lang="en-US" sz="2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Weak opioid</a:t>
            </a:r>
            <a:endParaRPr b="0" lang="en-US" sz="3200" spc="-1" strike="noStrike">
              <a:solidFill>
                <a:srgbClr val="333333"/>
              </a:solidFill>
              <a:latin typeface="Open Sans Semibold"/>
            </a:endParaRPr>
          </a:p>
        </p:txBody>
      </p:sp>
      <p:sp>
        <p:nvSpPr>
          <p:cNvPr id="79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ramadol belongs to step II of the WHO ladder, it binds not only to opioid receptors but also to norepinephrone and serotonin reuptake inhibito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has 0.2 times the analgesic potency of morph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exists as an oral and parenteral formul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Decrease the dosage in case of renal or hepatic impairment because of the risk of accumulation and respiratory depressio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Strong opioids</a:t>
            </a:r>
            <a:endParaRPr b="0" lang="en-US" sz="3200" spc="-1" strike="noStrike">
              <a:solidFill>
                <a:srgbClr val="333333"/>
              </a:solidFill>
              <a:latin typeface="Open Sans Semibold"/>
            </a:endParaRPr>
          </a:p>
        </p:txBody>
      </p:sp>
      <p:sp>
        <p:nvSpPr>
          <p:cNvPr id="80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orphine is a strong µ-opioid agonist and belongs to step III of the WHO ladde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mmonly used as reference for all other opioi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can be applied by all routes of administr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active metabolites accumulate in case of renal impairment and can increase sid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re are extended- (10, 20, 30, 60, 100, 200mg) and immediate-release (10mg, 20mg) formula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Strong opioids</a:t>
            </a:r>
            <a:endParaRPr b="0" lang="en-US" sz="3200" spc="-1" strike="noStrike">
              <a:solidFill>
                <a:srgbClr val="333333"/>
              </a:solidFill>
              <a:latin typeface="Open Sans Semibold"/>
            </a:endParaRPr>
          </a:p>
        </p:txBody>
      </p:sp>
      <p:sp>
        <p:nvSpPr>
          <p:cNvPr id="80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Hydromorphone is also a strong µ-opioid agonis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has about a 4 - 5 times the analgesic potency of morphine, with a 12h duration of effec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has an oral and parenteral formulation for s.c., i.m. or i.v. application, an extended- (4mg, 8mg, 12mg 16mg 24mg capsules) and immediate-release formulations (1.3mg, 2.6mg capsul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Has a low plasma protein binding and therefore, a possibly lower risk of interaction with other drug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Strong opioids</a:t>
            </a:r>
            <a:endParaRPr b="0" lang="en-US" sz="3200" spc="-1" strike="noStrike">
              <a:solidFill>
                <a:srgbClr val="333333"/>
              </a:solidFill>
              <a:latin typeface="Open Sans Semibold"/>
            </a:endParaRPr>
          </a:p>
        </p:txBody>
      </p:sp>
      <p:sp>
        <p:nvSpPr>
          <p:cNvPr id="80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xycodone: with 2 times the analgetic potency of morphine and a 8 - 12h dur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High oral bioavailability of 60-80%</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is available as an oral extended- (10mg, 20mg, 40mg, 80mg) and immediate-release formula (Oxycodone 5mg, 10mg, 20mg capsules buccal or sublingual)</a:t>
            </a:r>
            <a:r>
              <a:rPr b="0" lang="en-US" sz="2200" spc="-1" strike="noStrike">
                <a:solidFill>
                  <a:srgbClr val="1a1a1a"/>
                </a:solidFill>
                <a:latin typeface="Open Sans"/>
              </a:rPr>
              <a:t> or Oxycodone iv 10mg, 20m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re is a fixed formula with naloxone to reduce the risk for drug induced constipation (Targ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Strong opioids</a:t>
            </a:r>
            <a:endParaRPr b="0" lang="en-US" sz="3200" spc="-1" strike="noStrike">
              <a:solidFill>
                <a:srgbClr val="333333"/>
              </a:solidFill>
              <a:latin typeface="Open Sans Semibold"/>
            </a:endParaRPr>
          </a:p>
        </p:txBody>
      </p:sp>
      <p:sp>
        <p:nvSpPr>
          <p:cNvPr id="80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Fentanyl: has 80-100 times the analgetic potency of morphine, it is metabolized in the liver, has a rapid onset and a short dur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mainly exists as a parenteral formula but a transdermal application (Fentanyl patches with 12, 25, 50, 75, 100µg/h, change of the patches every 72 hours) is also widely us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For breakthrough pain there are nasal buccal or transmucosal formula (100, 200, 400, 600, 800, 1200, 1600µg)</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Routes of opioid administration</a:t>
            </a:r>
            <a:endParaRPr b="0" lang="en-US" sz="3200" spc="-1" strike="noStrike">
              <a:solidFill>
                <a:srgbClr val="333333"/>
              </a:solidFill>
              <a:latin typeface="Open Sans Semibold"/>
            </a:endParaRPr>
          </a:p>
        </p:txBody>
      </p:sp>
      <p:sp>
        <p:nvSpPr>
          <p:cNvPr id="809" name=""/>
          <p:cNvSpPr txBox="1"/>
          <p:nvPr/>
        </p:nvSpPr>
        <p:spPr>
          <a:xfrm>
            <a:off x="777960" y="1387440"/>
            <a:ext cx="8115120" cy="4937040"/>
          </a:xfrm>
          <a:prstGeom prst="rect">
            <a:avLst/>
          </a:prstGeom>
          <a:noFill/>
          <a:ln w="0">
            <a:noFill/>
          </a:ln>
        </p:spPr>
        <p:txBody>
          <a:bodyPr lIns="0" rIns="0" tIns="0" bIns="0" anchor="t">
            <a:normAutofit fontScale="99000"/>
          </a:bodyPr>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ral, rectal</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Nasal, sublingual, buccal</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ransdermal as a patch</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ntramuscular via intermittent injection </a:t>
            </a:r>
            <a:r>
              <a:rPr b="0" lang="de-DE" sz="2200" spc="-1" strike="noStrike">
                <a:solidFill>
                  <a:srgbClr val="df006e"/>
                </a:solidFill>
                <a:latin typeface="Open Sans"/>
              </a:rPr>
              <a:t>(NOT recommended particularily when long term treatment is planned!)</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ubcutaneous - intermittent injections or </a:t>
            </a:r>
            <a:br>
              <a:rPr sz="2200"/>
            </a:br>
            <a:r>
              <a:rPr b="0" lang="de-DE" sz="2200" spc="-1" strike="noStrike">
                <a:solidFill>
                  <a:srgbClr val="1a1a1a"/>
                </a:solidFill>
                <a:latin typeface="Open Sans"/>
              </a:rPr>
              <a:t>continuous infusion</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ntravenous - intermittent injections or continuous infusion</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pinal epidural</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pinal intrathecal</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81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Richard‘s disease progressed and with it the intensity of his pain and onset of a new type of pain: burning pain which did not respond to the morphine. </a:t>
            </a:r>
            <a:r>
              <a:rPr b="0" lang="de-DE" sz="2200" spc="-1" strike="noStrike">
                <a:solidFill>
                  <a:srgbClr val="df006e"/>
                </a:solidFill>
                <a:latin typeface="Open Sans"/>
              </a:rPr>
              <a:t>Also he got a sensitive deficit perineal because of an infiltration of the Pudendal nerv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Richard‘s physician prescribed dexamethason 12 mg and gabapentine 3 x 300mg (</a:t>
            </a:r>
            <a:r>
              <a:rPr b="0" lang="de-DE" sz="2200" spc="-1" strike="noStrike">
                <a:solidFill>
                  <a:srgbClr val="df006e"/>
                </a:solidFill>
                <a:latin typeface="Open Sans"/>
              </a:rPr>
              <a:t>starting with x mg and increaseing in 100mg steps</a:t>
            </a:r>
            <a:r>
              <a:rPr b="0" lang="de-DE" sz="2200" spc="-1" strike="noStrike">
                <a:solidFill>
                  <a:srgbClr val="1a1a1a"/>
                </a:solidFill>
                <a:latin typeface="Open Sans"/>
              </a:rPr>
              <a:t>). As a result, the pain decreased ag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Neuropathic pain</a:t>
            </a:r>
            <a:endParaRPr b="0" lang="en-US" sz="3200" spc="-1" strike="noStrike">
              <a:solidFill>
                <a:srgbClr val="333333"/>
              </a:solidFill>
              <a:latin typeface="Open Sans Semibold"/>
            </a:endParaRPr>
          </a:p>
        </p:txBody>
      </p:sp>
      <p:sp>
        <p:nvSpPr>
          <p:cNvPr id="81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is pain results from a damage to afferent neurons and altered pain transmission and processing in the spinal cord and br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ain characteristics and sensations are differ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Neuropathic pain can be difficult to treat, often you need more than opioids: anticonvulsants, antidepressan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Examples for neuropathic pain in cancer pain: neuropathy after chemotherapy or radiotherapy, compression of nerves by the tumor or metastase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diagnose neuropathic pain?</a:t>
            </a:r>
            <a:endParaRPr b="0" lang="en-US" sz="3200" spc="-1" strike="noStrike">
              <a:solidFill>
                <a:srgbClr val="333333"/>
              </a:solidFill>
              <a:latin typeface="Open Sans Semibold"/>
            </a:endParaRPr>
          </a:p>
        </p:txBody>
      </p:sp>
      <p:sp>
        <p:nvSpPr>
          <p:cNvPr id="81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patient‘s description of the pain quality: lancinating, burning, pricking, tender, numb, throbbing, nagging, ho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pain projection and and pain radiation along a course of nerves with segmental or peripheral distribution, a glove-like distribution or attributed to a dermatom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aresis or muscular weakness and pain in the extremities in the case of a plexopathy</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diagnose neuropathic pain?</a:t>
            </a:r>
            <a:endParaRPr b="0" lang="en-US" sz="3200" spc="-1" strike="noStrike">
              <a:solidFill>
                <a:srgbClr val="333333"/>
              </a:solidFill>
              <a:latin typeface="Open Sans Semibold"/>
            </a:endParaRPr>
          </a:p>
        </p:txBody>
      </p:sp>
      <p:sp>
        <p:nvSpPr>
          <p:cNvPr id="81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By careful neurological examin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Look for somatosensory abnormalities such as dysaesthesias, hyperalgesia, hypaesthesia, dynamic or thermal allodynia</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Look for paresis or muskular weakness and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For examination use a stub-point needle, a warm or cold spoon, a cottonwool tip</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Aims and topics </a:t>
            </a:r>
            <a:endParaRPr b="0" lang="en-US" sz="3200" spc="-1" strike="noStrike">
              <a:solidFill>
                <a:srgbClr val="333333"/>
              </a:solidFill>
              <a:latin typeface="Open Sans Semibold"/>
            </a:endParaRPr>
          </a:p>
        </p:txBody>
      </p:sp>
      <p:sp>
        <p:nvSpPr>
          <p:cNvPr id="75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General aspects concerning cancer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Recommendations and guidelines for the use of drugs in the management of cancer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ssue of opioid availabilit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Essential analgesic drug lis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earls of wisdom</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ase repor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Reference lis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Drugs for neuropathic pain</a:t>
            </a:r>
            <a:endParaRPr b="0" lang="en-US" sz="3200" spc="-1" strike="noStrike">
              <a:solidFill>
                <a:srgbClr val="333333"/>
              </a:solidFill>
              <a:latin typeface="Open Sans Semibold"/>
            </a:endParaRPr>
          </a:p>
        </p:txBody>
      </p:sp>
      <p:sp>
        <p:nvSpPr>
          <p:cNvPr id="81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ost commonly used anticonvulsants are gabapentin, pregabalin and carbamazep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ost commonly used antidepressant: </a:t>
            </a:r>
            <a:br>
              <a:rPr sz="2200"/>
            </a:br>
            <a:r>
              <a:rPr b="0" lang="de-DE" sz="2200" spc="-1" strike="noStrike">
                <a:solidFill>
                  <a:srgbClr val="1a1a1a"/>
                </a:solidFill>
                <a:latin typeface="Open Sans"/>
              </a:rPr>
              <a:t>amitriptyline, doxep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y act as sodium and calcium channel blockers </a:t>
            </a:r>
            <a:br>
              <a:rPr sz="2200"/>
            </a:br>
            <a:r>
              <a:rPr b="0" lang="de-DE" sz="2200" spc="-1" strike="noStrike">
                <a:solidFill>
                  <a:srgbClr val="1a1a1a"/>
                </a:solidFill>
                <a:latin typeface="Open Sans"/>
              </a:rPr>
              <a:t>of the neuronal cell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Because of possible side-effects of the central nervous system carefully raise the dosage: „start low, go slow“!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Drugs for neuropathic pain</a:t>
            </a:r>
            <a:endParaRPr b="0" lang="en-US" sz="3200" spc="-1" strike="noStrike">
              <a:solidFill>
                <a:srgbClr val="333333"/>
              </a:solidFill>
              <a:latin typeface="Open Sans Semibold"/>
            </a:endParaRPr>
          </a:p>
        </p:txBody>
      </p:sp>
      <p:sp>
        <p:nvSpPr>
          <p:cNvPr id="82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arbamazepine: initial dose 2 x 100mg/day</a:t>
            </a:r>
            <a:br>
              <a:rPr sz="2200"/>
            </a:br>
            <a:r>
              <a:rPr b="0" lang="de-DE" sz="2200" spc="-1" strike="noStrike">
                <a:solidFill>
                  <a:srgbClr val="1a1a1a"/>
                </a:solidFill>
                <a:latin typeface="Open Sans"/>
              </a:rPr>
              <a:t>up to 2 x 800mg/da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Gabapentin: initial dose 3 x 100mg/day</a:t>
            </a:r>
            <a:br>
              <a:rPr sz="2200"/>
            </a:br>
            <a:r>
              <a:rPr b="0" lang="de-DE" sz="2200" spc="-1" strike="noStrike">
                <a:solidFill>
                  <a:srgbClr val="1a1a1a"/>
                </a:solidFill>
                <a:latin typeface="Open Sans"/>
              </a:rPr>
              <a:t>up to 3 x 800mg/da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mitriptyline/Doxepin: initial dose 1 x 25mg in the evening up to 1 x 75mg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ossible side effects: constipation, dry mouth, drowsiness, sedation, arrhythmias, induction and elevation of liver enzymes, edema</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Drugs for neuropathic pain</a:t>
            </a:r>
            <a:endParaRPr b="0" lang="en-US" sz="3200" spc="-1" strike="noStrike">
              <a:solidFill>
                <a:srgbClr val="333333"/>
              </a:solidFill>
              <a:latin typeface="Open Sans Semibold"/>
            </a:endParaRPr>
          </a:p>
        </p:txBody>
      </p:sp>
      <p:sp>
        <p:nvSpPr>
          <p:cNvPr id="82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rticosteroids such as dexamethason can reduce pain due to nerve structure compression or edema of metastas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rescribe initially 1 x 16-24mg/day in the morning</a:t>
            </a:r>
            <a:br>
              <a:rPr sz="2200"/>
            </a:br>
            <a:r>
              <a:rPr b="0" lang="de-DE" sz="2200" spc="-1" strike="noStrike">
                <a:solidFill>
                  <a:srgbClr val="1a1a1a"/>
                </a:solidFill>
                <a:latin typeface="Open Sans"/>
              </a:rPr>
              <a:t>or radiotherapy and taper off gradually after pain redu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ometimes a combination with opioids will improve pain reduction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82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James‘s pain was treated sufficiently but he experienced new symptoms: constipation and nausea.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constipation was treated with lactulose 3 x 10mg/day and the nausea wtih metoclopramide 4 x 10mg/da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James‘s situation was stable for the next 6 months.</a:t>
            </a:r>
            <a:br>
              <a:rPr sz="2200"/>
            </a:br>
            <a:r>
              <a:rPr b="0" lang="de-DE"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82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fter this time pain increased again because of his progressive disease. He got a new burning pain without reduction of the pain intensity by taking more morphine. Also he got a sensitive deficit perineal because of an infiltration of the plexus pudendus. Under the treatment with dexamethasone 12 mg and gabapentin 3 x 300mg/day (going up in 100mg steps) the pain decreased again.</a:t>
            </a:r>
            <a:endParaRPr b="0" lang="en-US" sz="2200" spc="-1" strike="noStrike">
              <a:solidFill>
                <a:srgbClr val="1a1a1a"/>
              </a:solidFill>
              <a:latin typeface="Open Sans"/>
            </a:endParaRPr>
          </a:p>
        </p:txBody>
      </p:sp>
      <p:sp>
        <p:nvSpPr>
          <p:cNvPr id="828" name="Text Box 5"/>
          <p:cNvSpPr/>
          <p:nvPr/>
        </p:nvSpPr>
        <p:spPr>
          <a:xfrm>
            <a:off x="3419640" y="5013360"/>
            <a:ext cx="30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006e"/>
                </a:solidFill>
                <a:latin typeface="Calibri"/>
              </a:rPr>
              <a:t>was already in slide 24</a:t>
            </a:r>
            <a:endParaRPr b="0" lang="en-US" sz="1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83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ue to his cancer </a:t>
            </a:r>
            <a:r>
              <a:rPr b="0" lang="en-US" sz="2200" spc="-1" strike="noStrike">
                <a:solidFill>
                  <a:srgbClr val="df006e"/>
                </a:solidFill>
                <a:latin typeface="Open Sans"/>
              </a:rPr>
              <a:t>(and possibly a side effect of the medications??), </a:t>
            </a:r>
            <a:r>
              <a:rPr b="0" lang="en-US" sz="2200" spc="-1" strike="noStrike">
                <a:solidFill>
                  <a:srgbClr val="1a1a1a"/>
                </a:solidFill>
                <a:latin typeface="Open Sans"/>
              </a:rPr>
              <a:t>James felt tired and lethargic. He had lost a great deal of strength and energy. Though the quality of his life was good on some days, on other days he was depressed. On the days he was depressed, the pain was more obtrusive than during the ‘good’ days. His family and friends spent time with James and paid him more attention. Consequently, until his death there was no need to increase the doses of the medications he was give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of constipation</a:t>
            </a:r>
            <a:endParaRPr b="0" lang="en-US" sz="3200" spc="-1" strike="noStrike">
              <a:solidFill>
                <a:srgbClr val="333333"/>
              </a:solidFill>
              <a:latin typeface="Open Sans Semibold"/>
            </a:endParaRPr>
          </a:p>
        </p:txBody>
      </p:sp>
      <p:sp>
        <p:nvSpPr>
          <p:cNvPr id="83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ometimes it is harder to treat the constipation </a:t>
            </a:r>
            <a:br>
              <a:rPr sz="2200"/>
            </a:br>
            <a:r>
              <a:rPr b="0" lang="de-DE" sz="2200" spc="-1" strike="noStrike">
                <a:solidFill>
                  <a:srgbClr val="1a1a1a"/>
                </a:solidFill>
                <a:latin typeface="Open Sans"/>
              </a:rPr>
              <a:t>than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pioids reduce the gastrointestinal motility, decrease gastrointestinal mucus secretion, increase fluid absorption mainly by binding to peripheral opioid receptors in the mesenteric and submucous plexus and to cerebral and spinal recepto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re is no tolerance to constipation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of constipation </a:t>
            </a:r>
            <a:endParaRPr b="0" lang="en-US" sz="3200" spc="-1" strike="noStrike">
              <a:solidFill>
                <a:srgbClr val="333333"/>
              </a:solidFill>
              <a:latin typeface="Open Sans Semibold"/>
            </a:endParaRPr>
          </a:p>
        </p:txBody>
      </p:sp>
      <p:sp>
        <p:nvSpPr>
          <p:cNvPr id="83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administer laxatives such as: </a:t>
            </a:r>
            <a:br>
              <a:rPr sz="2200"/>
            </a:br>
            <a:r>
              <a:rPr b="0" lang="de-DE" sz="2200" spc="-1" strike="noStrike">
                <a:solidFill>
                  <a:srgbClr val="1a1a1a"/>
                </a:solidFill>
                <a:latin typeface="Open Sans"/>
              </a:rPr>
              <a:t>lactulose 3 x 10mg to 3 x 40mg/day or</a:t>
            </a:r>
            <a:br>
              <a:rPr sz="2200"/>
            </a:br>
            <a:r>
              <a:rPr b="0" lang="de-DE" sz="2200" spc="-1" strike="noStrike">
                <a:solidFill>
                  <a:srgbClr val="1a1a1a"/>
                </a:solidFill>
                <a:latin typeface="Open Sans"/>
              </a:rPr>
              <a:t>macrogol 1-3 sachets/day or </a:t>
            </a:r>
            <a:br>
              <a:rPr sz="2200"/>
            </a:br>
            <a:r>
              <a:rPr b="0" lang="de-DE" sz="2200" spc="-1" strike="noStrike">
                <a:solidFill>
                  <a:srgbClr val="1a1a1a"/>
                </a:solidFill>
                <a:latin typeface="Open Sans"/>
              </a:rPr>
              <a:t>non-resorbable oils/paraffine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Emphasize the need for a normal daily fluid intak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s long as is possible, encourage the patient </a:t>
            </a:r>
            <a:br>
              <a:rPr sz="2200"/>
            </a:br>
            <a:r>
              <a:rPr b="0" lang="de-DE" sz="2200" spc="-1" strike="noStrike">
                <a:solidFill>
                  <a:srgbClr val="1a1a1a"/>
                </a:solidFill>
                <a:latin typeface="Open Sans"/>
              </a:rPr>
              <a:t>to be mobil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of opioid induced emesis</a:t>
            </a:r>
            <a:endParaRPr b="0" lang="en-US" sz="3200" spc="-1" strike="noStrike">
              <a:solidFill>
                <a:srgbClr val="333333"/>
              </a:solidFill>
              <a:latin typeface="Open Sans Semibold"/>
            </a:endParaRPr>
          </a:p>
        </p:txBody>
      </p:sp>
      <p:sp>
        <p:nvSpPr>
          <p:cNvPr id="83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bout 20% of the patients treated with opioids </a:t>
            </a:r>
            <a:br>
              <a:rPr sz="2200"/>
            </a:br>
            <a:r>
              <a:rPr b="0" lang="de-DE" sz="2200" spc="-1" strike="noStrike">
                <a:solidFill>
                  <a:srgbClr val="1a1a1a"/>
                </a:solidFill>
                <a:latin typeface="Open Sans"/>
              </a:rPr>
              <a:t>suffer from emesi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First choice: metoclopramide 4 x 10mg and haloperidol </a:t>
            </a:r>
            <a:br>
              <a:rPr sz="2200"/>
            </a:br>
            <a:r>
              <a:rPr b="0" lang="de-DE" sz="2200" spc="-1" strike="noStrike">
                <a:solidFill>
                  <a:srgbClr val="1a1a1a"/>
                </a:solidFill>
                <a:latin typeface="Open Sans"/>
              </a:rPr>
              <a:t>3 x 0.3-0.5mg orally, subcutaneously or intravenous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is better to combine opioids and antiemetics at </a:t>
            </a:r>
            <a:br>
              <a:rPr sz="2200"/>
            </a:br>
            <a:r>
              <a:rPr b="0" lang="de-DE" sz="2200" spc="-1" strike="noStrike">
                <a:solidFill>
                  <a:srgbClr val="1a1a1a"/>
                </a:solidFill>
                <a:latin typeface="Open Sans"/>
              </a:rPr>
              <a:t>the beginning of the treatment as a prophylaxi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fter 7 days of treatment, try to withhold the medication; tolerance to opioid-induced emesis typically developes after this period of tim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Issue of opioid availability</a:t>
            </a:r>
            <a:endParaRPr b="0" lang="en-US" sz="3200" spc="-1" strike="noStrike">
              <a:solidFill>
                <a:srgbClr val="333333"/>
              </a:solidFill>
              <a:latin typeface="Open Sans Semibold"/>
            </a:endParaRPr>
          </a:p>
        </p:txBody>
      </p:sp>
      <p:sp>
        <p:nvSpPr>
          <p:cNvPr id="83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ny patients all over the world do not receive adequate relief of pain because of excessive </a:t>
            </a:r>
            <a:br>
              <a:rPr sz="2200"/>
            </a:br>
            <a:r>
              <a:rPr b="0" lang="en-US" sz="2200" spc="-1" strike="noStrike">
                <a:solidFill>
                  <a:srgbClr val="1a1a1a"/>
                </a:solidFill>
                <a:latin typeface="Open Sans"/>
              </a:rPr>
              <a:t>regulatory restrictions on the availability and accessibility of opioid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is a reluctance about using opioid analgesics </a:t>
            </a:r>
            <a:br>
              <a:rPr sz="2200"/>
            </a:br>
            <a:r>
              <a:rPr b="0" lang="en-US" sz="2200" spc="-1" strike="noStrike">
                <a:solidFill>
                  <a:srgbClr val="1a1a1a"/>
                </a:solidFill>
                <a:latin typeface="Open Sans"/>
              </a:rPr>
              <a:t>and fear of abu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other problem is the lack of knowledge regarding pain relief and opioids among professionals and </a:t>
            </a:r>
            <a:br>
              <a:rPr sz="2200"/>
            </a:br>
            <a:r>
              <a:rPr b="0" lang="en-US" sz="2200" spc="-1" strike="noStrike">
                <a:solidFill>
                  <a:srgbClr val="1a1a1a"/>
                </a:solidFill>
                <a:latin typeface="Open Sans"/>
              </a:rPr>
              <a:t>the publ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Ensure opioid availability!</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ncer Pain</a:t>
            </a:r>
            <a:endParaRPr b="0" lang="en-US" sz="3200" spc="-1" strike="noStrike">
              <a:solidFill>
                <a:srgbClr val="333333"/>
              </a:solidFill>
              <a:latin typeface="Open Sans Semibold"/>
            </a:endParaRPr>
          </a:p>
        </p:txBody>
      </p:sp>
      <p:sp>
        <p:nvSpPr>
          <p:cNvPr id="75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p to 70% of cancer patients suffer from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st patients can obtain sufficient pain relief with oral analgesic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alternative methods for drugs administration (e.g. intravenous or subcutaneous) only when oral administration is not possibl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the Pain Relief Ladder of the World Health Organization (WHO) as a guideline for the use of drugs in the management of p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Essential WHO analgesic drug list</a:t>
            </a:r>
            <a:endParaRPr b="0" lang="en-US" sz="3200" spc="-1" strike="noStrike">
              <a:solidFill>
                <a:srgbClr val="333333"/>
              </a:solidFill>
              <a:latin typeface="Open Sans Semibold"/>
            </a:endParaRPr>
          </a:p>
        </p:txBody>
      </p:sp>
      <p:sp>
        <p:nvSpPr>
          <p:cNvPr id="84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ramado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orphine, Sevredo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Hydromorph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xycodo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Fentany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aracetamol</a:t>
            </a:r>
            <a:br>
              <a:rPr sz="2200"/>
            </a:br>
            <a:r>
              <a:rPr b="0" lang="de-DE" sz="2200" spc="-1" strike="noStrike">
                <a:solidFill>
                  <a:srgbClr val="1a1a1a"/>
                </a:solidFill>
                <a:latin typeface="Open Sans"/>
              </a:rPr>
              <a:t>Acetaminophen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etamizol, Dipyro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buprofen, Diclofenac</a:t>
            </a:r>
            <a:endParaRPr b="0" lang="en-US" sz="2200" spc="-1" strike="noStrike">
              <a:solidFill>
                <a:srgbClr val="1a1a1a"/>
              </a:solidFill>
              <a:latin typeface="Open Sans"/>
            </a:endParaRPr>
          </a:p>
        </p:txBody>
      </p:sp>
      <p:sp>
        <p:nvSpPr>
          <p:cNvPr id="841" name=""/>
          <p:cNvSpPr txBox="1"/>
          <p:nvPr/>
        </p:nvSpPr>
        <p:spPr>
          <a:xfrm>
            <a:off x="5457600" y="1387440"/>
            <a:ext cx="3686040" cy="4937040"/>
          </a:xfrm>
          <a:prstGeom prst="rect">
            <a:avLst/>
          </a:prstGeom>
          <a:noFill/>
          <a:ln w="0">
            <a:noFill/>
          </a:ln>
        </p:spPr>
        <p:txBody>
          <a:bodyPr lIns="0" rIns="0" tIns="0" bIns="0" anchor="t">
            <a:normAutofit fontScale="67000"/>
          </a:bodyPr>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Carbamazepine</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Gabapentin</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Amitriptylin</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Dexamethasone</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Lactulose</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Macrogol</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Haloperidol</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Metoclopramide</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Pearls of wisdom</a:t>
            </a:r>
            <a:endParaRPr b="0" lang="en-US" sz="3200" spc="-1" strike="noStrike">
              <a:solidFill>
                <a:srgbClr val="333333"/>
              </a:solidFill>
              <a:latin typeface="Open Sans Semibold"/>
            </a:endParaRPr>
          </a:p>
        </p:txBody>
      </p:sp>
      <p:sp>
        <p:nvSpPr>
          <p:cNvPr id="84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ufficient pain reduction can normally be obtained using the principles of the WHO </a:t>
            </a:r>
            <a:r>
              <a:rPr b="0" lang="en-US" sz="2200" spc="-1" strike="noStrike">
                <a:solidFill>
                  <a:srgbClr val="1a1a1a"/>
                </a:solidFill>
                <a:latin typeface="Open Sans"/>
              </a:rPr>
              <a:t>Pain Relief Ladder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refer </a:t>
            </a:r>
            <a:r>
              <a:rPr b="0" lang="en-US" sz="2200" spc="-1" strike="noStrike">
                <a:solidFill>
                  <a:srgbClr val="1a1a1a"/>
                </a:solidFill>
                <a:latin typeface="Open Sans"/>
              </a:rPr>
              <a:t>administration of analgesics using the oral rout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ange type and dosage of the drugs as necessar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 aware of psychosocial elements influencing </a:t>
            </a:r>
            <a:br>
              <a:rPr sz="2200"/>
            </a:br>
            <a:r>
              <a:rPr b="0" lang="en-US" sz="2200" spc="-1" strike="noStrike">
                <a:solidFill>
                  <a:srgbClr val="1a1a1a"/>
                </a:solidFill>
                <a:latin typeface="Open Sans"/>
              </a:rPr>
              <a:t>cancer p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n‘t be afraid of opioid related respiratory depress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 opioid induced side effect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Reference list</a:t>
            </a:r>
            <a:endParaRPr b="0" lang="en-US" sz="3200" spc="-1" strike="noStrike">
              <a:solidFill>
                <a:srgbClr val="333333"/>
              </a:solidFill>
              <a:latin typeface="Open Sans Semibold"/>
            </a:endParaRPr>
          </a:p>
        </p:txBody>
      </p:sp>
      <p:sp>
        <p:nvSpPr>
          <p:cNvPr id="845" name=""/>
          <p:cNvSpPr txBox="1"/>
          <p:nvPr/>
        </p:nvSpPr>
        <p:spPr>
          <a:xfrm>
            <a:off x="777960" y="1387440"/>
            <a:ext cx="789768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re Curriculum for Professional Education in Pain</a:t>
            </a:r>
            <a:br>
              <a:rPr sz="2200"/>
            </a:br>
            <a:r>
              <a:rPr b="0" lang="de-DE" sz="2200" spc="-1" strike="noStrike">
                <a:solidFill>
                  <a:srgbClr val="1a1a1a"/>
                </a:solidFill>
                <a:latin typeface="Open Sans"/>
              </a:rPr>
              <a:t>J. Edmond Charlt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Guide to Pain Management in Low-Resource-Settings IASP</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Pain Management Core Curriculum for European Medical Schools, Version October 2009 DGSS, EF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edikamentöse Schmerztherapie bei Tumorpatienten, </a:t>
            </a:r>
            <a:br>
              <a:rPr sz="2200"/>
            </a:br>
            <a:r>
              <a:rPr b="0" lang="de-DE" sz="2200" spc="-1" strike="noStrike">
                <a:solidFill>
                  <a:srgbClr val="1a1a1a"/>
                </a:solidFill>
                <a:latin typeface="Open Sans"/>
              </a:rPr>
              <a:t>ein Leitfaden,10. überarbeitete Auflage E. Klaschnik</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a:t>
            </a:r>
            <a:endParaRPr b="0" lang="en-US" sz="3200" spc="-1" strike="noStrike">
              <a:solidFill>
                <a:srgbClr val="333333"/>
              </a:solidFill>
              <a:latin typeface="Open Sans Semibold"/>
            </a:endParaRPr>
          </a:p>
        </p:txBody>
      </p:sp>
      <p:sp>
        <p:nvSpPr>
          <p:cNvPr id="847" name="PlaceHolder 2"/>
          <p:cNvSpPr>
            <a:spLocks noGrp="1"/>
          </p:cNvSpPr>
          <p:nvPr>
            <p:ph/>
          </p:nvPr>
        </p:nvSpPr>
        <p:spPr>
          <a:xfrm>
            <a:off x="755640" y="1989000"/>
            <a:ext cx="7586640" cy="1681200"/>
          </a:xfrm>
          <a:prstGeom prst="rect">
            <a:avLst/>
          </a:prstGeom>
          <a:noFill/>
          <a:ln w="0">
            <a:noFill/>
          </a:ln>
        </p:spPr>
        <p:txBody>
          <a:bodyPr lIns="0" rIns="0" tIns="0" bIns="0" anchor="t">
            <a:normAutofit fontScale="76000"/>
          </a:bodyPr>
          <a:p>
            <a:pPr marL="1360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600" spc="-1" strike="noStrike">
                <a:solidFill>
                  <a:srgbClr val="1a1a1a"/>
                </a:solidFill>
                <a:latin typeface="Open Sans"/>
                <a:ea typeface="Times New Roman"/>
              </a:rPr>
              <a:t>Barbara Kleinmann, MD </a:t>
            </a:r>
            <a:endParaRPr b="0" lang="en-US" sz="3600" spc="-1" strike="noStrike">
              <a:solidFill>
                <a:srgbClr val="1a1a1a"/>
              </a:solidFill>
              <a:latin typeface="Open Sans"/>
            </a:endParaRPr>
          </a:p>
          <a:p>
            <a:pPr marL="1360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1360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Freiburg, Germany</a:t>
            </a:r>
            <a:endParaRPr b="0" lang="en-US" sz="2400" spc="-1" strike="noStrike">
              <a:solidFill>
                <a:srgbClr val="1a1a1a"/>
              </a:solidFill>
              <a:latin typeface="Open Sans"/>
            </a:endParaRPr>
          </a:p>
          <a:p>
            <a:pPr marL="1360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Text Box 8"/>
          <p:cNvSpPr/>
          <p:nvPr/>
        </p:nvSpPr>
        <p:spPr>
          <a:xfrm>
            <a:off x="611280" y="907920"/>
            <a:ext cx="8076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Calibri"/>
              </a:rPr>
              <a:t>Talks in the International Pain School include the following: </a:t>
            </a:r>
            <a:endParaRPr b="0" lang="en-US" sz="1800" spc="-1" strike="noStrike">
              <a:solidFill>
                <a:srgbClr val="1a1a1a"/>
              </a:solidFill>
              <a:latin typeface="Calibri"/>
            </a:endParaRPr>
          </a:p>
        </p:txBody>
      </p:sp>
      <p:sp>
        <p:nvSpPr>
          <p:cNvPr id="849"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1a1a1a"/>
              </a:solidFill>
              <a:latin typeface="Calibri"/>
            </a:endParaRPr>
          </a:p>
        </p:txBody>
      </p:sp>
      <p:graphicFrame>
        <p:nvGraphicFramePr>
          <p:cNvPr id="850" name=""/>
          <p:cNvGraphicFramePr/>
          <p:nvPr/>
        </p:nvGraphicFramePr>
        <p:xfrm>
          <a:off x="684360" y="1266840"/>
          <a:ext cx="7696080" cy="4983120"/>
        </p:xfrm>
        <a:graphic>
          <a:graphicData uri="http://schemas.openxmlformats.org/drawingml/2006/table">
            <a:tbl>
              <a:tblPr/>
              <a:tblGrid>
                <a:gridCol w="4260600"/>
                <a:gridCol w="3435480"/>
              </a:tblGrid>
              <a:tr h="38952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hysiology and pathophysiology of pain</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Assessment of pain &amp;  taking a pain history</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linical pharmacology of analgesics</a:t>
                      </a:r>
                      <a:endParaRPr b="0" lang="en-US" sz="1200" spc="-1" strike="noStrike">
                        <a:solidFill>
                          <a:srgbClr val="1a1a1a"/>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and non-pharmacological treatment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ostoperative – low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1a1a1a"/>
                        </a:solidFill>
                        <a:latin typeface="Calibri"/>
                      </a:endParaRPr>
                    </a:p>
                  </a:txBody>
                  <a:tcPr anchor="t" marL="90000" marR="90000">
                    <a:lnL>
                      <a:noFill/>
                    </a:lnL>
                    <a:lnR>
                      <a:noFill/>
                    </a:lnR>
                    <a:lnT>
                      <a:noFill/>
                    </a:lnT>
                    <a:lnB>
                      <a:noFill/>
                    </a:lnB>
                    <a:noFill/>
                  </a:tcPr>
                </a:tc>
              </a:tr>
              <a:tr h="55152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ostoperative– high treatment technology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1a1a1a"/>
                        </a:solidFill>
                        <a:latin typeface="Calibri"/>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low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ancer pain– high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alliative Care</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Neuropathic pain - low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Tampere, Finland</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Neuropathic pain – high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Calibri"/>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sychological aspects of managing pain</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1a1a1a"/>
                        </a:solidFill>
                        <a:latin typeface="Calibri"/>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Special Management Challenge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1a1a1a"/>
                        </a:solidFill>
                        <a:latin typeface="Calibri"/>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852" name="Picture 6" descr=""/>
          <p:cNvPicPr/>
          <p:nvPr/>
        </p:nvPicPr>
        <p:blipFill>
          <a:blip r:embed="rId1"/>
          <a:stretch/>
        </p:blipFill>
        <p:spPr>
          <a:xfrm>
            <a:off x="762120" y="3048120"/>
            <a:ext cx="7954920" cy="3325680"/>
          </a:xfrm>
          <a:prstGeom prst="rect">
            <a:avLst/>
          </a:prstGeom>
          <a:ln w="0">
            <a:noFill/>
          </a:ln>
        </p:spPr>
      </p:pic>
      <p:sp>
        <p:nvSpPr>
          <p:cNvPr id="853" name="Rectangle 4"/>
          <p:cNvSpPr/>
          <p:nvPr/>
        </p:nvSpPr>
        <p:spPr>
          <a:xfrm>
            <a:off x="919440" y="1981080"/>
            <a:ext cx="5037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Cancer Pain</a:t>
            </a:r>
            <a:endParaRPr b="0" lang="en-US" sz="3200" spc="-1" strike="noStrike">
              <a:solidFill>
                <a:srgbClr val="333333"/>
              </a:solidFill>
              <a:latin typeface="Open Sans Semibold"/>
            </a:endParaRPr>
          </a:p>
        </p:txBody>
      </p:sp>
      <p:sp>
        <p:nvSpPr>
          <p:cNvPr id="76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ncer pain may include different qualities, locations and intensities depending on the type and stage of the cance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dosage of drugs might require frequent changes during treatment due to progression of the tumour or to sid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 the case of new symptoms and pain you should always think of a reasonable alternative and symptomatic treatmen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ncer Pain</a:t>
            </a:r>
            <a:endParaRPr b="0" lang="en-US" sz="3200" spc="-1" strike="noStrike">
              <a:solidFill>
                <a:srgbClr val="333333"/>
              </a:solidFill>
              <a:latin typeface="Open Sans Semibold"/>
            </a:endParaRPr>
          </a:p>
        </p:txBody>
      </p:sp>
      <p:sp>
        <p:nvSpPr>
          <p:cNvPr id="76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intensity is influenced not only by somatic findings but also by psychological factors such as fear, depression, sleeplessn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this case you often can reduce analgesics by “treating” the psychosocial factor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lk about the problems with your patient and his fami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764"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James Window is a 59 year old policeman, suffering from prostate cancer since 2009. Following surgery, he went into remission for 2 years and continued with his work. However, he then experienced back pain and after undergoing tests, metastases were detected in his spine. He underwent radiotherapy and received ibuprofen 2 x 600mg/day, resulting in reduction of pain for about 3 months.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 (cont.)</a:t>
            </a:r>
            <a:endParaRPr b="0" lang="en-US" sz="3200" spc="-1" strike="noStrike">
              <a:solidFill>
                <a:srgbClr val="333333"/>
              </a:solidFill>
              <a:latin typeface="Open Sans Semibold"/>
            </a:endParaRPr>
          </a:p>
        </p:txBody>
      </p:sp>
      <p:sp>
        <p:nvSpPr>
          <p:cNvPr id="766"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local pain increased despite taking more ibuprofen?. As a result, James‘s physician prescribed, tramadol, a low-efficacy opioid. He was started on the lowest dosage of </a:t>
            </a:r>
            <a:br>
              <a:rPr sz="2200"/>
            </a:br>
            <a:r>
              <a:rPr b="0" lang="de-DE" sz="2200" spc="-1" strike="noStrike">
                <a:solidFill>
                  <a:srgbClr val="1a1a1a"/>
                </a:solidFill>
                <a:latin typeface="Open Sans"/>
              </a:rPr>
              <a:t>2 x 50mg/day, with an extended-release formulation. After a short time, the dose was increased to 2 x 100mg and then to 2 x 150mg. At this point, the pain decreased to a tolerable level without side effect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 (cont.)</a:t>
            </a:r>
            <a:endParaRPr b="0" lang="en-US" sz="3200" spc="-1" strike="noStrike">
              <a:solidFill>
                <a:srgbClr val="333333"/>
              </a:solidFill>
              <a:latin typeface="Open Sans Semibold"/>
            </a:endParaRPr>
          </a:p>
        </p:txBody>
      </p:sp>
      <p:sp>
        <p:nvSpPr>
          <p:cNvPr id="768" name=""/>
          <p:cNvSpPr txBox="1"/>
          <p:nvPr/>
        </p:nvSpPr>
        <p:spPr>
          <a:xfrm>
            <a:off x="777960" y="1387440"/>
            <a:ext cx="758664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t this stage, his physician decided to change the treatment to morphine. He started with a dose of 2 x 30mg morphine using an extended-release formula and 10mg morphine with an immediate-release (IR) formula in the event of „break-through pain“. After 3 days of treatment using this regimen, the physician counted the number of IR tablets that James used (6-7 a day) and converted the dose to the extended-release formula. The dosage of morphine prescribed to Richard was then 2 x 100mg / day. w/o leaving the option for IR MO?</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2T07:17:32Z</dcterms:created>
  <dc:creator>Barbara</dc:creator>
  <dc:description/>
  <dc:language>en-US</dc:language>
  <cp:lastModifiedBy>ruth</cp:lastModifiedBy>
  <cp:lastPrinted>2012-06-10T09:51:32Z</cp:lastPrinted>
  <dcterms:modified xsi:type="dcterms:W3CDTF">2015-06-15T09:47:13Z</dcterms:modified>
  <cp:revision>194</cp:revision>
  <dc:subject/>
  <dc:title>Cancer Pain</dc:title>
</cp:coreProperties>
</file>